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D4D-7F68-42F5-92DD-D242309C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598-B808-48FE-BBA6-8FFF19D9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3A1B6-D403-479C-8471-165121F0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E681F-5EF8-4389-8240-A74A8549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E89D4-E816-4484-86F9-42AF3FD2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AF001-15AC-450D-B5BD-5955F340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B0A84-8BF7-4023-B0AA-3C67FC59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36F2D-D157-490E-AD31-CA81FCF2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AE453-CA6B-4312-8AD9-F3775DC3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4C08E-9F8D-4DD7-9089-E4419A57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F861D-3949-4CF5-9B02-0CDB6D01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FDFC61-2818-4C19-9A27-75F3D09A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A35-133A-426C-93A6-E85B626B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85491-CECD-49B8-89D3-BFE2AF53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D9B65-AFA2-46B9-BC71-05650FFC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B6355-B0BC-43E6-B274-E78536C7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606D4-6BD0-46A6-8F2C-A41F85C1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7F432-07F2-4FE1-B5B2-D78B0586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9D1D3-D256-44AA-9A70-61EA8CA5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82431-815B-4C11-985C-9EC0106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FFDF5-F50B-48C4-8975-CE3998D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6785C-D4DE-4D6F-A8F9-8B8D48D3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D87F4-A3EA-4C40-B1CA-B1104FEE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3C4-3CE9-449A-B28B-E15ED727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73E9B-C2EB-4F75-A5A1-4FDFC22A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175AC7-170A-491D-8E31-93D5CA8B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EE5570-724B-40CF-94E2-B44D8120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5648CC-D0CD-4F7F-89C9-2202C110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49E171-1AC9-45E5-8156-AA116B1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2BF72F-FC9C-4990-88E4-1ECEF03E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89E4AE-6E8C-42D0-912F-0F0A755A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B5190A-0171-4AAB-8086-FAF08C6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836923-7FA3-4232-B40D-2E19929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C13F6F-E199-4DEC-BD2A-A531B3D4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463D-9918-4A35-B246-220E98A1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28E983-5960-43DF-821B-1408F084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1A9A32-D34B-4DAE-BADE-AD67AB57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13AD1A-174A-445E-A3E6-244BC1CF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E156-1849-4E14-903A-82E412B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98BF-B592-4EC0-AA09-6BA1093C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43E3-9E67-4E3A-B989-77F5FD8C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D5BA-C794-4176-9BA4-97AE5BD8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7E6A-C9DD-436D-BB95-F61B66AD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18E3-52D6-4A90-A1EC-1890B35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55D-E3B5-4085-B250-40985FDB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A1E3-6537-4977-8577-53B92644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E8B7-B778-4D9A-BEC0-30BDAAB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461F-4DBA-4CDE-84E6-4080781D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A671-B9AE-46D4-A86C-0EC8E47F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EED2-FD61-48CE-ACF0-0A105511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9D89-2957-4BC8-9341-D0015BE8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D00D-3F35-462F-B238-0E71E446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A5A0-B9C6-41CA-B701-90C48D0F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C732-52D3-4432-A181-60F51A98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6194-6ECD-4605-8E90-88277DB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64C-666D-4A74-A1BF-F2FDAB82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CE50-E1D5-4CC6-B33D-9E4CF61D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6898-791F-4743-A446-C308F4D3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2034-1259-4FE0-B584-0DFA898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6657-6298-453C-A270-2E3A21AE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0E4C-A96E-4C9C-BA84-775A585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00DB-621A-4339-955F-A3A6F747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611E-8496-4C35-8090-88723EEF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357E-2269-437D-BECF-B7E646C4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0391-25FA-4601-890A-C0444D4D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B9C6-062E-42D2-AF7C-21B560BE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BA2-C8A7-4ABA-ACAA-D574502E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6FB0-9BE4-47C3-8ACE-4D59019E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0F0C-49BB-44D2-9FDB-29AC94E0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F3129-0E12-46A6-B7DD-9F930514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7A2C-5620-4BDF-B4CD-914C532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CC50-A614-409F-B5BB-EEBF47A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FE67E-C76A-421A-A2DD-95B56C6C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AF9D3-0DEB-43A9-8463-41FE468F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96BC-F03F-4236-AB9F-52EFE136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2E9B-C641-4783-9261-DB8B585A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B4C50-CBEC-435A-B299-822A0C0D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E39-4E73-439D-BFA9-1A5E1918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84137-8304-4AF2-81D1-1AF9B3D3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E3BF-B887-4328-9E39-A34B0FBF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D3C6-D9EB-4D3E-B17A-46F92B15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6D627-2E2A-4EC0-929E-A5C9C70E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41D78-25C1-49C9-8E41-F4B8AAF3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8BFF7-9C02-4643-908B-AA49F17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439B3-880D-4B4E-9949-CC047FAF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3FD0B-7478-4630-BBCC-02D4AACB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54AFF-3E1E-462D-AFDB-09E2A17B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BD28-F3A2-478D-85A3-6972A8E8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BDB-19C4-4D9A-B9A9-DE316582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0954-E9E0-461A-A2AA-FE4E3DAB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4A2D3-C7BF-4D72-93AA-DA0DD6FF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EDB11-BA17-4AD0-BB90-149E4B06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F10B-C9C4-43A8-8694-84FB1BD8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7564D-65D0-4221-B9D8-7D2900D4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CCE42-7FD4-49F2-804A-094BA43B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3225B-2691-4C09-88AD-752671A7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90E76-6A71-4DFC-936B-5ADEEC93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832C6-4B72-40B5-89FA-33DEC10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EE500-FF59-4E9A-A29F-4F77F6E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671-82B3-4A04-BFB7-EE6363CF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D4C9-A323-43E5-82B2-1C7B4765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904CE-4B05-4079-9F0F-760B16F5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8CF7-34DD-4225-8B91-84B47930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50C88-FCEB-473D-A22E-F67583D8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1770F-9D33-4F1E-BD7B-1BAB3E13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71C52-5A64-4647-99AA-F2A33EFA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7FCB3-A032-4790-9366-D87F71A2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76359-001B-437D-ADD3-BB01ABCB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6DF23-7810-44C0-B237-6D4F99C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C154C-DCB1-4505-858B-B402551F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004-C3D9-4784-AF3F-D1790E1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E2D2-CB41-4D98-9F68-5274A3B4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A2345-86F8-4BFB-8704-CF27891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9BF94-1078-4609-BF9F-8FC31F03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1A8AE-565D-412F-A149-F5786925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7150-D2A7-4EA7-B297-670859D3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D3D12-C8CF-4D37-8106-C33FA0E3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59432-FEAB-4CF8-8048-727A7114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8A6EF-9ECD-49CD-B02E-FD20C9F0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0943-6AA4-485F-967B-712BA5C2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5DC78-9412-4AEC-BEB0-79D8BEE2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9E2-8015-4D6B-9973-315A912E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4BE34-0C06-4E26-A435-DEE2B97D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10A5F-878A-4423-8960-A036D5C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B2CE9-DCC1-4366-870E-7046466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C3F63-7042-4201-B079-7C4A4AA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612C2-EE4D-45E8-8304-0557411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0AB95-F82B-4BB3-9866-C335614C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4B177-BB64-41F6-B1FD-37301C2B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461AC-DEB0-4FAF-8046-78C20BEF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5A5B4-65C6-4C21-B88A-CC7E04FB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46446-CABA-42C2-9FE9-6B7D70C2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8680-0D99-4283-8B98-A03602741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4DAB-9340-4787-87C5-3C75D5D60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392B-AF40-4660-B05E-F1CCEB6CB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F0AA-5754-4029-AE62-BA82F23BC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577D-D640-4F07-8343-FBC3D0197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3F5D-7CBC-4D2C-AAA0-757491A95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1059-2A8B-480E-9745-7E7D18891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8B05-C12D-437F-8DA2-49FF6EF3F5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76B2-BC1A-40B4-AE64-D3B43C9D24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E10D-1ABE-410F-A980-D50239EBF8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BD2F-071E-47BF-B0D9-07F9A9A27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 SEARCH OF EFFICIENCY AND SUPERIOR EXECU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Strategic Organiza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stablished Patterns of Author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voiding conflict which might impact the guest experi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intaining standards which might impact the guest experi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king decisions on many issues while weighing the impact on the guest experi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derstanding and responding to a very dynamic environment: The Ritz Carlton empowerment mod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pan of Contro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ates to the number of subordinates or partners who report to a supervis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more similar the tasks of subordinates or partners the wider the span of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more trained and skilled…the wider the span of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more predictable the work is…the wider the span of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s of Coordinating the 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Pooled interdepende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ities can be performed with little interaction between individuals / groups e.g. cashi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ndardized rules or procedures for each to follo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nsive training and direct supervis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s of Coordinating the 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Sequential interdepende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e task’s output is the second task’s inpu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guest check-in process (proper coordination between front desk receptionist and bell hop, front desk and housekeepin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ose coordination is possible only through direct communication and joint decision ma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nciples of Organization Desig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Chain of Comm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ryone should have a superior to report t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rganization chart should show chain of command and span of contr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om the organization chart, an employee can trace the way up the chain of command to the G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nciples of Organization Desig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Unity of Comm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ch person should have only one superi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ity of command is sometimes violated when staff manager gives order to line employe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.g. safety manager corrects a waiter (who reports to restaurant manager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M should help coordination if there is confusion in unity of comma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nciples of Organization Desig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Deleg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rocess in which superior assigns task, responsibility and autonomy to subordinat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Degree of deleg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Gather information for manag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Give alternatives for manager to selec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Make recommendation for manager to approv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Make decision but inform manager before proceed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Take action but inform manager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Take action, need not inform manag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fficiency AND Superior Execu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ntrol the Strateg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ans of motivating staff to work at organizational goa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ement of goa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t of assumptions or forecasts (environmenta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Qualitative statement of how business will chan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cific action steps for implemen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t of financial proje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vide information and feedback (information technology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fficiency AND Superior Execu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a Strong Adaptive Culture characterized b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ias for action - autonomy, risk-taking, entrepreneurship (intra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herent mission - sticks to what is important, close to custom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ructured for flexibili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fficiency AND Superior Execu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reate a Meaningful Reward Syst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enerously reward those who reach objectives and deny reward to those who don’t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ayoff should be a major piece of total compensation and…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hould extend to everyone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dministration is paramount (timely, consistent, fair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ightly linked to strategic objectiv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very compensation/promotion decision will be carefully scrutinized by all employe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designing reward systems, jobs need to be defined in terms of the results to be accomplished, not duties and responsibiliti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mplementation Is Strate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inctive performance is almost entirely a function of deep understand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not one thing a 1000% better but a 1000 things 1% better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organizations consist of many things -- the most critical are its inherent skills or distinctive competencie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distinctive skills -- “thousand thousand little things” are the real source of “fixed” barriers to imitation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THE CRITICAL COMPONENTS OF  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STRATEGIC ORGANIZATION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novative, dedicated, motivated peo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ve empowering leade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ganizational structures the match competitive strategies, efficient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ganizational controls and incentives that efficiently focus people on strategic goals and objectiv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ppropriate administrative procedures and polici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ganizational arrangements that efficiently “govern” the critical activiti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efficient organizational boundari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TIONAL STRUC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organization should be structured by its market strategy to reach its ultimate goa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siness costs rise from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upervisory monitoring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motivation problem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ordination activiti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Misinformation or no informa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YOU GET THER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do you get people to achieve organizational goals in the most efficient way possibl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blems in managing/motivating peopl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ack of interest/Lazines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Unrestrained self-interes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Error and mistak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ot clear in measuring performanc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mplexity/Inability in giving clear direc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WO MECHANIS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means to coordinate the work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means to monitor and measure effectiveness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BASIC ELEMENTS IN ORGANIZATIONAL STRUCTURE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Work Special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 Departmental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Established Patterns of Author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Span of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 Methods of Coordinating the Wor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 Specializ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hotels, work is divided between line and staff func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ne functions work directly with the guest in delivering the overall guest experience: Who are the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ff functions work to support the Line functions and are not necessarily in direct contact with the guest: Who are the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partmentaliz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ertain jobs are logically grouped together into departments to create efficiency in the organiz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hotels these departments must function together to deliver the guest experie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could a staff function such as Building Engineering impact the guest experience? Human Resourc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3T17:41:16Z</dcterms:created>
  <dc:creator>thomas hilton olson</dc:creator>
  <dc:description/>
  <dc:language>en-US</dc:language>
  <cp:lastModifiedBy>robert</cp:lastModifiedBy>
  <dcterms:modified xsi:type="dcterms:W3CDTF">2011-04-01T12:42:34Z</dcterms:modified>
  <cp:revision>16</cp:revision>
  <dc:subject/>
  <dc:title>ORGANIZATION &amp; STRUCTURE</dc:title>
</cp:coreProperties>
</file>